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7B53-4763-425A-8F97-C0970B11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E6DF-E2AE-48F1-8D3E-18DF91D9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4F4B-5119-4087-B294-86EA28A0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8C4-F826-4181-91CE-D85F5613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5D98-F8E7-4C89-A2EE-4F69AE57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6560-F55A-419B-BCB0-E44212D1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3AAF-EDB6-449E-BF73-2DEACB52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6192-E631-4FD3-8996-585E1F2F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E607-1DE1-4B4D-9E83-5DC4DD1D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005E-642E-463F-861C-8E2C21AB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775E-C9ED-47FB-93F0-AABE3902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99B1-EAA9-46EA-B2B5-8016D77D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BFD6-D265-4A5B-ADCC-7A2612FA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CA70-3EDB-4234-8A82-C4A33593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AE46-F77F-472A-9A1F-29E88F5B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E704-5F0C-406A-9BFC-8B2F89AE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A8F8-F9E7-473C-B321-6F2AB44C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F0B-E13A-43ED-8E98-D93A419A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6B6-81AC-4642-AF9F-152E7231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2ADE-9C19-4EB6-8AF1-B8E78CF2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451-131B-49C0-9BB0-2EFB2A11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D8A-B446-46D7-99D6-ECDBBE79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FD98-459A-4FDE-B0C7-F3383A87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8CA-004D-4F94-88E2-696E73CB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00F7-CBF7-4852-A238-121634458DA5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8B2E-A641-4BA9-BBA5-3DF41B987D34}" type="slidenum"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082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’analisi delle reti soci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56B6-DB50-4773-9052-2BD9D56B7F42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271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Come ci giudicano gli altri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889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Il </a:t>
            </a:r>
            <a:r>
              <a:rPr b="0" i="1" lang="it-IT" sz="2600" spc="-1" strike="noStrike">
                <a:solidFill>
                  <a:srgbClr val="545472"/>
                </a:solidFill>
                <a:latin typeface="Tahoma"/>
              </a:rPr>
              <a:t>test di percezione</a:t>
            </a: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 costituisce un ulteriore raffinamento dell’approccio sociometrico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A ciascun partecipante viene chiesto di indicare le persone che, secondo lui, lo hanno scelto o rifiutato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Questa possibilità collega la sociometria ad un idea centrale (sviluppata da Cooley, Mead e l’interazionismo simbilico) nella tradizione della psicologia sociale: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noi formiamo la nostra identità guardandoci 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nello “specchio” delle opinioni che gli altri 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hanno di noi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3449-B8C6-4DA9-8C8A-26F6368560E5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Dalla Sociometria alla </a:t>
            </a:r>
            <a:r>
              <a:rPr b="0" i="1" lang="it-IT" sz="4000" spc="-1" strike="noStrike">
                <a:solidFill>
                  <a:srgbClr val="660066"/>
                </a:solidFill>
                <a:latin typeface="Tahoma"/>
              </a:rPr>
              <a:t>Social Network 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Analys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280" y="1909440"/>
            <a:ext cx="89647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vvero … dall’attrazione / repulsione ai flussi di comunicazion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on si indagano più gruppi chiusi, ma maglie aperte di relazioni interpersonali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on si studiano più le strutture delle simpatie, ma il sistema dei contatti; perde senso la valutazione della reciprocità della designazion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9B35-DC42-4B0F-9443-20095B329D3A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Dalla Sociometria alla </a:t>
            </a:r>
            <a:r>
              <a:rPr b="0" i="1" lang="it-IT" sz="4000" spc="-1" strike="noStrike">
                <a:solidFill>
                  <a:srgbClr val="660066"/>
                </a:solidFill>
                <a:latin typeface="Tahoma"/>
              </a:rPr>
              <a:t>Social Network 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Analys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280" y="1909440"/>
            <a:ext cx="89647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Perde significato il concetto di struttura a vantaggio di quello di ret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La rete non esiste di per sé, ma in relazione a un determinato flusso di comunicazione (che può veicolare contenuti diversi)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Quindi all’interno di un gruppo possono esistere più reti; una rete può attraversare un gruppo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961C-FA37-49F0-A1EF-BE494E8B8F10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6472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Problema metodologico: i confini delle re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6160" y="1906560"/>
            <a:ext cx="88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In fase di progettazione, il ricercatore deve stabilire i confini della rete che studia. Quando questi non sono stabiliti dal committente o da caratteristiche strutturali, il ricercatore ha 2 possibilità: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675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tentare delle definizioni da sottoporre a controllo empirico;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675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ricostruire i confini in base alle percezioni di chi fa parte della rete che sta studiando.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7A26-7BA9-467B-BF60-C2678480BC37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964720" cy="69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Problema metodologico: il campioname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6160" y="1268280"/>
            <a:ext cx="88185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Quando intende studiare reti molto estese, il ricercatore potrebbe aver bisogno di operare un campionament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 logica campionaria tradizionale è stata pensata per selezionare individui e non reti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 tecnica di campionamento più adatta alla rilevazione delle reti è lo 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snow-ball sampling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n questo caso, la scelta dei punti di campionamento iniziale dipende dalla densità della rete, piuttosto che semplicemente dalla sua dimension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2549-D254-448A-A1BB-D3106C9A7CDD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560" y="333000"/>
            <a:ext cx="88218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660066"/>
                </a:solidFill>
                <a:latin typeface="Tahoma"/>
              </a:rPr>
              <a:t>Network analysis e teoria sociologica: il concetto di capitale sociale</a:t>
            </a:r>
            <a:endParaRPr b="0" lang="en-US" sz="3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Per </a:t>
            </a:r>
            <a:r>
              <a:rPr b="1" lang="it-IT" sz="2400" spc="-1" strike="noStrike">
                <a:solidFill>
                  <a:srgbClr val="545472"/>
                </a:solidFill>
                <a:latin typeface="Tahoma"/>
              </a:rPr>
              <a:t>capitale sociale</a:t>
            </a: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 si intende: l’insieme degli aspetti della struttura sociale che aiutano le persone ad agire collettivamente migliorando il benessere sociale, la crescita e lo sviluppo. Si tratta di un concetto multi-dimensionale e dinamico, che comprende le reti di relazioni interpersonali, le norme sociali e le istituzioni formali e informali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Al di là delle importanti differenze che caratterizzano i diversi approcci al capitale sociale, questo concetto costituisce – potenzialmente – una rivoluzione copernicana in sociologia: esso infatti sposta l’attenzione dei ricercatori (e quindi anche il loro modo di fare indagine) dagli attributi individuali a quelli delle relazioni in cui gli individui sono immersi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2C07-F84C-4660-A3A9-FD10722C02AB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836280"/>
            <a:ext cx="89647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660066"/>
                </a:solidFill>
                <a:latin typeface="Tahoma"/>
              </a:rPr>
              <a:t>Sociometria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2131560"/>
            <a:ext cx="89596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45472"/>
                </a:solidFill>
                <a:latin typeface="Tahoma"/>
              </a:rPr>
              <a:t>Nel 1925 Jacob Moreno presenta al mondo la Sociometria: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45472"/>
                </a:solidFill>
                <a:latin typeface="Tahoma"/>
              </a:rPr>
              <a:t>Repertorio di tecniche di ricerca quantitativa che rilevano e studiano i processi di attrazione e comunicazione che si sviluppano nei gruppi piccoli.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C84D-E1D1-441C-BF61-BD597EA1939A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26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Tra ricerca e terap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ella visione di Moreno, la sociometria era più di una tecnica di ricerca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ltre a rilevare lo stato delle relazioni interpersonali all’interno di un gruppo, una ricerca sociometrica dovrebbe anche mobilitare, coinvolgere, rendere i membri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consapevol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del e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interessat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al proprio gruppo. In questo senso, era un vero e proprio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trattamento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32F1-98FC-4ADF-B024-FC081F044B98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266760"/>
            <a:ext cx="896472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Il “raffreddamento” della Sociomet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8920" y="1546200"/>
            <a:ext cx="88203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Ben presto (fine anni ’30) la sociometria perde la sua missione terapeutica, trasformandosi in una affermata tecnica di rilevazione particolarmente usata dagli psicologi.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Il suo obiettivo è soprattutto rilevare l’</a:t>
            </a:r>
            <a:r>
              <a:rPr b="0" i="1" lang="it-IT" sz="3000" spc="-1" strike="noStrike">
                <a:solidFill>
                  <a:srgbClr val="545472"/>
                </a:solidFill>
                <a:latin typeface="Tahoma"/>
              </a:rPr>
              <a:t>attrazione interpersonale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, cioè il processo di scelta che sta alla base delle strutture di relazione e comunicazione dei piccoli gruppi.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66EA-46B6-40AE-9887-E9D50AA0E12A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l test sociometr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Sostanzialmente si basa su due domande: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Con chi vai più d’accordo tra i membri del gruppo?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Con chi non vai d’accordo tra i membri del gruppo?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A partire da questo nucleo centrale sono stati sviluppati diversi affinamenti, ognuno dei quali si basa su un diverso criterio di attrazione (con chi lavori meglio, a chi affideresti un progetto, con chi andresti a fare una vacanza, a chi affideresti tuo figlio, etc.)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0F3D-3139-41C8-BCC8-06CFBA428978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9440" y="698040"/>
            <a:ext cx="82789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parare un test socimetr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835280"/>
            <a:ext cx="89978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Quando si realizza un test sociometrico, a ciascun partecipante viene chiesto di designare un numero prefissato di scelte e di repulsioni. Affinché i dati ottenuti con un test sociometrico siano validi, il ricercatore deve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hiarire il senso di concetti come “accordo”, “preferenza”, etc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onvincere i partecipanti a svolgere lo scomodo compito di indicare simpatici e antipatici 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FD3F-526C-4CB9-9CC7-D567042B806C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La matrice sociometric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250920" y="946080"/>
          <a:ext cx="8713800" cy="557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46080"/>
                    <a:ext cx="871380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3A7F-0179-4620-800D-EC955CAFFA05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5404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a matrice sociometrica per studiare individui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1080" y="1474560"/>
            <a:ext cx="827856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 partecipanti a un test sociometrico possono essere classificati in base 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status sociometric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bilancio delle scelte e dei rifiuti ricevuti)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la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centralità sociometrica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bilancio delle scelte e dei rifiuti reciproci)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grado di isolament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numero di designazioni ricevute, indipendentemente dal fatto che si tratti di scelte o rifiuti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A406-23D7-415E-AC57-6871810CB47F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6472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a matrice sociometrica per studiare i sotto-gruppi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1080" y="1690200"/>
            <a:ext cx="8712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Oltre alle domande per fare le designazioni, il ricercatore può includere in un test sociometrico altre domande classiche da questionario (età, sesso, stato civile, ruolo nell’organizzazione, etc.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Successivamente, i partecipanti al test sociometrico possono essere divisi in sottogruppi per analizzare il grado di apertura (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in-group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/ 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out-group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) di ciascun sottogrupp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21:40:13Z</dcterms:created>
  <dc:creator>Gabriella</dc:creator>
  <dc:description/>
  <dc:language>en-US</dc:language>
  <cp:lastModifiedBy>vitali</cp:lastModifiedBy>
  <dcterms:modified xsi:type="dcterms:W3CDTF">2008-08-26T12:48:22Z</dcterms:modified>
  <cp:revision>96</cp:revision>
  <dc:subject/>
  <dc:title>Esercitazione 16 novembre 2004</dc:title>
</cp:coreProperties>
</file>